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8F33-9E21-49B8-9477-0C37CAF3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1FB-D88B-4E91-844E-C90080FC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1752-7E2C-43F2-8952-C9D6367CD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8273-A6E8-40E3-8551-8DFBA24D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6D67-0E83-47F6-950A-ABF88422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3985-EE50-4989-8907-5B926291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7EDD-83D3-4746-BB86-972BEEF64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6AF5-51BA-4074-B71B-CD6821D1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E39-EB50-4060-9B39-871CF781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07A-53D2-4200-AC41-29D05F8F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3A89-3CF4-4CA8-BA49-61426B24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9A58-14FE-4221-A974-6778B814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6EE-4302-495F-A395-E877F69D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BDBF-8B8C-4B4C-8BD6-5F902087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EAA0-3843-412F-9C74-DAD25513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2C70-A1D4-41E4-9945-EE8A463D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97C8-2BAD-4221-BFCA-A6C474DF4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91E2-CA51-4CCE-B975-ABD02AA3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560A-2A78-451E-975E-58C999CA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5D1-5022-4223-89E6-853D8BEB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2F10-145D-47FA-A6C1-F0F3510C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A9F8-63BF-4272-BF10-38BD6487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C59F-7F63-4659-851E-853AFE75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06E2-72A0-4F68-A198-295727E7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1E0-07AB-4B51-AEF7-F47FBCCD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3D28-ACDE-44EB-BFA9-BF845431E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038-0B14-424F-9D61-3F3B92A7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719-589E-49C6-AD8B-CBBBAF5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7F6-E0DF-4B28-A4F0-638B3DAA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A9F-F7A0-4C9D-8EB1-806E7F1B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4D66-86FC-4693-9CE3-7BF106F3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03C2-7A9A-4DE8-ACB6-12E0D9E1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0221-B740-477A-A1A6-A8B531BD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969-5131-4CDC-8C36-517C02D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AFAA-24B1-446E-BDBC-3F7D9480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9336-7C8B-41A1-A363-E8397783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020A-985F-44FA-946C-D6D99C8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4B8-64C7-4E55-9536-BC025078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0E3B-333F-4B37-A012-4D9E2D7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BFC0-9183-48C8-BB3A-EA048552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465C-0451-4706-BC38-43109A54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2EB1-9B1A-4E9A-AC16-F2108FB3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C07D-A043-4E08-95F2-DC4C676D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22D-C5C7-47E1-B4F5-42535FCF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958-1168-4502-AF71-E240ADC5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AE2-4838-4780-BAD2-EFE3AD18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F58-07E7-48AD-AE9D-8EC2D427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3B8-907F-4ACF-811E-8B8BD65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52B-23D0-450F-9A03-D736AF2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EFF-ACFC-4457-8B4E-8CD7E4D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B435-354E-428D-9D20-E2DD069A65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CE06-08B9-4387-9334-F417BE9866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www.mjsd1.ca/~cci/library/arrow.gif&amp;imgrefurl=http://www.mjsd1.ca/~cci/library/&amp;h=190&amp;w=190&amp;sz=2&amp;tbnid=W3GrNQG3RLYJ:&amp;tbnh=97&amp;tbnw=97&amp;hl=en&amp;start=13&amp;prev=/images%3Fq%3Darrow%26svnum%3D10%26hl%3Den%26lr%3D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mjsd1.ca/~cci/library/arrow.gif&amp;imgrefurl=http://www.mjsd1.ca/~cci/library/&amp;h=190&amp;w=190&amp;sz=2&amp;tbnid=W3GrNQG3RLYJ:&amp;tbnh=97&amp;tbnw=97&amp;hl=en&amp;start=13&amp;prev=/images%3Fq%3Darrow%26svnum%3D10%26hl%3Den%26lr%3D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.fullerton.ca.us/graphics/focus130.gif&amp;imgrefurl=http://www.ci.fullerton.ca.us/city_manager/focus/focussept00.html&amp;h=170&amp;w=200&amp;sz=17&amp;tbnid=l9hLR5zSX34J:&amp;tbnh=84&amp;tbnw=99&amp;hl=en&amp;start=14&amp;prev=/images%3Fq%3DCartoon%2BCar%26svnum%3D10%26hl%3Den%26lr%3D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avingasoftware.nl/software/ThreeDimSim/ex2/images/zb100_3b.gif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autoclipart.com/stuff/images/1608766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bmgrp.com/images/product/galant/Air-Bag-Galant.jpg&amp;imgrefurl=http://www.sbmgrp.com/product_eng/galant/galant_interior.htm&amp;h=143&amp;w=200&amp;sz=20&amp;tbnid=-PkGJEwFlPMJ:&amp;tbnh=70&amp;tbnw=99&amp;hl=en&amp;start=5&amp;prev=/images%3Fq%3DCar%2BAir%2BBag%2B%26svnum%3D10%26hl%3Den%26lr%3D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safetyairbags.com/images/dummies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edski.com/images/CarolynCurl-bike-motion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808080"/>
                </a:solidFill>
                <a:latin typeface="Pussycat"/>
              </a:rPr>
              <a:t>Momentum and Its Conservation</a:t>
            </a:r>
            <a:br>
              <a:rPr sz="6300"/>
            </a:br>
            <a:r>
              <a:rPr b="0" lang="en-US" sz="3600" spc="-1" strike="noStrike">
                <a:solidFill>
                  <a:srgbClr val="808080"/>
                </a:solidFill>
                <a:latin typeface="Myriad Web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67632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rom our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ages 198-2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Impulse-Momentum Theor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ahoma"/>
              </a:rPr>
              <a:t>Impulse = 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u4l1c1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2911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arr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3962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arro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34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Pussycat"/>
              </a:rPr>
              <a:t>Using the Impulse-Momentum Theorem in real lif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Tahoma"/>
              </a:rPr>
              <a:t>Exampl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 algn="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If a car is traveling at a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fast speed and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suddenly stopped by a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thick brick wall, how wi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its momentum and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impulse affec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ocus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276720"/>
            <a:ext cx="251460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b100_3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447920"/>
            <a:ext cx="4562640" cy="249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608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4175280"/>
            <a:ext cx="4515120" cy="2412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n impulse is needed to bring the driver’s momentum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Tahoma"/>
              </a:rPr>
              <a:t>What can be used to decrease the force exerted on the driver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An </a:t>
            </a:r>
            <a:r>
              <a:rPr b="1" lang="en-US" sz="3400" spc="-1" strike="noStrike">
                <a:solidFill>
                  <a:srgbClr val="808080"/>
                </a:solidFill>
                <a:latin typeface="Arial"/>
              </a:rPr>
              <a:t>AIR BAG</a:t>
            </a: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 is used to reduce the force exerted on the driver by greatly increasing the length of time the force is exerted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Air-Bag-Gal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267080"/>
            <a:ext cx="3200400" cy="226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dummi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581280"/>
            <a:ext cx="33861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To Explain: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e initial velocity is the same with or without the airba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e air bag is used to reduce the force by increasing the time it takes the driver to hit the steering whe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rash-test-dummy"/>
          <p:cNvPicPr/>
          <p:nvPr/>
        </p:nvPicPr>
        <p:blipFill>
          <a:blip r:embed="rId1"/>
          <a:stretch/>
        </p:blipFill>
        <p:spPr>
          <a:xfrm>
            <a:off x="6248520" y="3886200"/>
            <a:ext cx="2558880" cy="2781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rash-test-dummy"/>
          <p:cNvPicPr/>
          <p:nvPr/>
        </p:nvPicPr>
        <p:blipFill>
          <a:blip r:embed="rId2"/>
          <a:stretch/>
        </p:blipFill>
        <p:spPr>
          <a:xfrm>
            <a:off x="4419720" y="1447920"/>
            <a:ext cx="2666880" cy="23637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It’s time to go to work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the momentum of a 16 kg bowling ball rolling at 4 m/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momentum = mass * velo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What we know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M = 16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V = 4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16 kg * 4 m/s = 64 kg * m/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808080"/>
                </a:solidFill>
                <a:latin typeface="Tahoma"/>
              </a:rPr>
              <a:t>= 64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2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920"/>
                            </p:stCondLst>
                            <p:childTnLst>
                              <p:par>
                                <p:cTn id="2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70"/>
                            </p:stCondLst>
                            <p:childTnLst>
                              <p:par>
                                <p:cTn id="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47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770"/>
                            </p:stCondLst>
                            <p:childTnLst>
                              <p:par>
                                <p:cTn id="2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Pussycat"/>
              </a:rPr>
              <a:t>More Fun Work:</a:t>
            </a:r>
            <a:br>
              <a:rPr sz="6000"/>
            </a:br>
            <a:r>
              <a:rPr b="0" lang="en-US" sz="6000" spc="-1" strike="noStrike">
                <a:solidFill>
                  <a:srgbClr val="808080"/>
                </a:solidFill>
                <a:latin typeface="Pussycat"/>
              </a:rPr>
              <a:t>Multi-Step Proble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. What is the momentum of a 50 kg box that moves 8 m/s across a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What we know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M = 50 k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V = 8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Momentum = 50 kg * 8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= 40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155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115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115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115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B. The moving box hits a pillow and stops in .5 seconds. What is the average force it exerts on the pil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**remember** F (delta) t = m*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What 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t = 0.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 = 5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V = 8 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 (0.5s-0s) = 50 kg * 8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 (0.5s) = 40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     </a:t>
            </a:r>
            <a:r>
              <a:rPr b="1" lang="en-US" sz="2700" spc="-1" strike="noStrike">
                <a:solidFill>
                  <a:srgbClr val="808080"/>
                </a:solidFill>
                <a:latin typeface="Tahoma"/>
              </a:rPr>
              <a:t>F = 800 N</a:t>
            </a:r>
            <a:br>
              <a:rPr sz="2700"/>
            </a:b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65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7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7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7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65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4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4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4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4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4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4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4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4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155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1155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1155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1155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. What average force does the pillow exert on the bo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800 N </a:t>
            </a: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The same force used to stop the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The same equation is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900"/>
                            </p:stCondLst>
                            <p:childTnLst>
                              <p:par>
                                <p:cTn id="3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300"/>
                            </p:stCondLst>
                            <p:childTnLst>
                              <p:par>
                                <p:cTn id="3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808080"/>
                </a:solidFill>
                <a:latin typeface="Pussycat"/>
              </a:rPr>
              <a:t>Momentum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mmonly used in terms of sports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Arial"/>
              </a:rPr>
              <a:t>(i.e. The team has a lot of momentum before the big championship ga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Arial"/>
              </a:rPr>
              <a:t>The team with momentum is “on the move” and will be hard to defe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29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808080"/>
                </a:solidFill>
                <a:latin typeface="Pussycat"/>
              </a:rPr>
              <a:t>9.2 The Conservation of Momentum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791320" y="5409720"/>
            <a:ext cx="3047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Pages 207- 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Two- Particle Collisio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ccording to Newton’s third law of motion, if two balls collide, despite different velocities and sizes, the forces exerted on each other will be equal and oppo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460a96960"/>
          <p:cNvPicPr/>
          <p:nvPr/>
        </p:nvPicPr>
        <p:blipFill>
          <a:blip r:embed="rId1"/>
          <a:stretch/>
        </p:blipFill>
        <p:spPr>
          <a:xfrm>
            <a:off x="662940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14"/>
          <p:cNvPicPr/>
          <p:nvPr/>
        </p:nvPicPr>
        <p:blipFill>
          <a:blip r:embed="rId2"/>
          <a:stretch/>
        </p:blipFill>
        <p:spPr>
          <a:xfrm>
            <a:off x="4648320" y="35812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15"/>
          <p:cNvPicPr/>
          <p:nvPr/>
        </p:nvPicPr>
        <p:blipFill>
          <a:blip r:embed="rId3"/>
          <a:stretch/>
        </p:blipFill>
        <p:spPr>
          <a:xfrm>
            <a:off x="2666880" y="3505320"/>
            <a:ext cx="129564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447264640"/>
          <p:cNvPicPr/>
          <p:nvPr/>
        </p:nvPicPr>
        <p:blipFill>
          <a:blip r:embed="rId4"/>
          <a:stretch/>
        </p:blipFill>
        <p:spPr>
          <a:xfrm>
            <a:off x="1066680" y="5105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path" presetID="35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6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808080"/>
                </a:solidFill>
                <a:latin typeface="Pussycat"/>
              </a:rPr>
              <a:t>Two- Particle Collision!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uring the collision, the two balls quickly exert a force on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The time intervals over which the forces are exerted are the same so they must be equal in magnitude but opposite in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460a96960"/>
          <p:cNvPicPr/>
          <p:nvPr/>
        </p:nvPicPr>
        <p:blipFill>
          <a:blip r:embed="rId1"/>
          <a:stretch/>
        </p:blipFill>
        <p:spPr>
          <a:xfrm>
            <a:off x="4876920" y="5238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447264640"/>
          <p:cNvPicPr/>
          <p:nvPr/>
        </p:nvPicPr>
        <p:blipFill>
          <a:blip r:embed="rId2"/>
          <a:stretch/>
        </p:blipFill>
        <p:spPr>
          <a:xfrm>
            <a:off x="335268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15"/>
          <p:cNvPicPr/>
          <p:nvPr/>
        </p:nvPicPr>
        <p:blipFill>
          <a:blip r:embed="rId3"/>
          <a:stretch/>
        </p:blipFill>
        <p:spPr>
          <a:xfrm>
            <a:off x="5257800" y="4191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14"/>
          <p:cNvPicPr/>
          <p:nvPr/>
        </p:nvPicPr>
        <p:blipFill>
          <a:blip r:embed="rId4"/>
          <a:stretch/>
        </p:blipFill>
        <p:spPr>
          <a:xfrm>
            <a:off x="3276720" y="42670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35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It’s Time to go to Work!</a:t>
            </a:r>
            <a:br>
              <a:rPr sz="8800"/>
            </a:br>
            <a:r>
              <a:rPr b="0" lang="en-US" sz="2800" spc="-1" strike="noStrike">
                <a:solidFill>
                  <a:srgbClr val="808080"/>
                </a:solidFill>
                <a:latin typeface="Pussycat"/>
              </a:rPr>
              <a:t>Multi-step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 10 kg monster walking 1 m/s eats a 1 kg monster at rest. (A.) What is the speed of the bigger monster immediately afterw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10 kg * 1 m/s = 1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1 kg * 0 m/s = </a:t>
            </a:r>
            <a:r>
              <a:rPr b="0" lang="en-US" sz="2400" spc="-1" strike="noStrike" u="sng">
                <a:solidFill>
                  <a:srgbClr val="808080"/>
                </a:solidFill>
                <a:uFillTx/>
                <a:latin typeface="Tahoma"/>
              </a:rPr>
              <a:t> 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1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(10 kg + 1 kg) * v = 1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v = 10/11 m/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700"/>
                            </p:stCondLst>
                            <p:childTnLst>
                              <p:par>
                                <p:cTn id="395" nodeType="afterEffect" fill="hold" presetClass="entr" presetID="56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4700"/>
                            </p:stCondLst>
                            <p:childTnLst>
                              <p:par>
                                <p:cTn id="402" nodeType="afterEffect" fill="hold" presetClass="entr" presetID="34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9200"/>
                            </p:stCondLst>
                            <p:childTnLst>
                              <p:par>
                                <p:cTn id="409" nodeType="afterEffect" fill="hold" presetClass="emph" presetID="34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B.) What would its speed be if the smaller monster were walking toward the bigger one 8 m/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10 kg * 1 m/s = 10 kg *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1  kg * 8 m/s =</a:t>
            </a:r>
            <a:r>
              <a:rPr b="0" lang="en-US" sz="2300" spc="-1" strike="noStrike" u="sng">
                <a:solidFill>
                  <a:srgbClr val="808080"/>
                </a:solidFill>
                <a:uFillTx/>
                <a:latin typeface="Tahoma"/>
              </a:rPr>
              <a:t>- 8 kg *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      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2 kg * m/s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11 kg * v = 2 kg *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1" lang="en-US" sz="2300" spc="-1" strike="noStrike">
                <a:solidFill>
                  <a:srgbClr val="808080"/>
                </a:solidFill>
                <a:latin typeface="Tahoma"/>
              </a:rPr>
              <a:t>v = 2/11 m/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4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4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800"/>
                            </p:stCondLst>
                            <p:childTnLst>
                              <p:par>
                                <p:cTn id="442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18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8080"/>
                </a:solidFill>
                <a:latin typeface="Pussycat"/>
              </a:rPr>
              <a:t>The En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057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r. Arbo! Give me an 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football_player_05"/>
          <p:cNvPicPr/>
          <p:nvPr/>
        </p:nvPicPr>
        <p:blipFill>
          <a:blip r:embed="rId1"/>
          <a:stretch/>
        </p:blipFill>
        <p:spPr>
          <a:xfrm>
            <a:off x="0" y="2438280"/>
            <a:ext cx="4124160" cy="441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omentum"/>
          <p:cNvPicPr/>
          <p:nvPr/>
        </p:nvPicPr>
        <p:blipFill>
          <a:blip r:embed="rId2"/>
          <a:stretch/>
        </p:blipFill>
        <p:spPr>
          <a:xfrm>
            <a:off x="4800600" y="4191120"/>
            <a:ext cx="3886200" cy="244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basketball"/>
          <p:cNvPicPr/>
          <p:nvPr/>
        </p:nvPicPr>
        <p:blipFill>
          <a:blip r:embed="rId3"/>
          <a:stretch/>
        </p:blipFill>
        <p:spPr>
          <a:xfrm>
            <a:off x="5943600" y="990720"/>
            <a:ext cx="259092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Momentu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omentum is also a physics t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Momentum- the quantity of motion that an object has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All objects have mass, so if an object is moving, it has momentum (“mass in motion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80" y="525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u4l1a1"/>
          <p:cNvPicPr/>
          <p:nvPr/>
        </p:nvPicPr>
        <p:blipFill>
          <a:blip r:embed="rId1"/>
          <a:stretch/>
        </p:blipFill>
        <p:spPr>
          <a:xfrm>
            <a:off x="-4506840" y="2712960"/>
            <a:ext cx="173340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u4l1a1"/>
          <p:cNvPicPr/>
          <p:nvPr/>
        </p:nvPicPr>
        <p:blipFill>
          <a:blip r:embed="rId2"/>
          <a:stretch/>
        </p:blipFill>
        <p:spPr>
          <a:xfrm>
            <a:off x="4267080" y="4267080"/>
            <a:ext cx="3409920" cy="1836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arolynCurl-bike-mo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2762280" cy="237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ball"/>
          <p:cNvPicPr/>
          <p:nvPr/>
        </p:nvPicPr>
        <p:blipFill>
          <a:blip r:embed="rId3"/>
          <a:stretch/>
        </p:blipFill>
        <p:spPr>
          <a:xfrm>
            <a:off x="47242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Isaac_Newton_cartoon"/>
          <p:cNvPicPr/>
          <p:nvPr/>
        </p:nvPicPr>
        <p:blipFill>
          <a:blip r:embed="rId4"/>
          <a:stretch/>
        </p:blipFill>
        <p:spPr>
          <a:xfrm>
            <a:off x="2209680" y="4191120"/>
            <a:ext cx="2257560" cy="2181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0763 L 0.30157 0.00763 E">
                                      <p:cBhvr>
                                        <p:cTn id="73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 amount of momentum an object has is dependent on two variab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ct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MASS-</a:t>
            </a: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 How much is mo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(we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ct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VELOCITY</a:t>
            </a: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-How fast the it is mo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(spe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Momentum E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momentum of an object is equal to the mass of the object times the velocity of th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Momentum = Mass times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IMPU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The product of the average force and the time interval over which it a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Unit of measurement is Newton-sec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N *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ahoma"/>
              </a:rPr>
              <a:t>The impulse on an object is equal to the change in momentum that it caus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Pussycat"/>
              </a:rPr>
              <a:t>Also Known A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800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21:08:47Z</dcterms:created>
  <dc:creator>Sarah</dc:creator>
  <dc:description/>
  <dc:language>en-US</dc:language>
  <cp:lastModifiedBy>Admin</cp:lastModifiedBy>
  <dcterms:modified xsi:type="dcterms:W3CDTF">2007-04-03T20:09:26Z</dcterms:modified>
  <cp:revision>21</cp:revision>
  <dc:subject/>
  <dc:title>Physics Power Point Presentation</dc:title>
</cp:coreProperties>
</file>